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D911-13E4-4259-ABE6-E9D022176E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DCC5-03BB-44C0-A3B5-B8545A4986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11B8-FF77-4338-B946-39AC2FD097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0EF8-5B08-41B7-80DF-15CDAE85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CF0E-6BC4-4620-8B3A-31404123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F4E4-1544-42DB-912D-B90386D4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A955-493E-4DB0-A74B-690130A4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CD00-E9ED-4030-AA11-972FBFFD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C8BF-95FE-4438-91A1-C39B3A2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39DE-94ED-4536-961B-2190F98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43EF-E9DA-4525-9D19-234AB43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42D3-024D-4177-BC83-78F9FBE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9212-9F13-49F7-9B9A-06BC52C3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436-689E-4583-9830-D1C35421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80D5-8EE4-45DE-A6CE-7FF55791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9ACE-30A4-405F-89AF-62BB7B40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A979-B4FB-4DCE-AFDF-2742E438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6305-B32E-48BC-8202-D522F106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D7592-2F69-4E75-8DA2-B477C6AF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70B5-88D8-445B-A5B9-E4F7BCA3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52BB-1105-4158-A186-6F0BF7D3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85D12-4272-4AED-AA6E-381512E4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BD0A-5474-4DDA-B7C3-2CECF653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67A8-9E72-41B2-9011-A7215354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C367-4121-4B35-8811-81CA7876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6795-37BB-4950-97D0-11EAA83A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C4B7-5F31-4CFB-85FB-42AFE995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6A04-71C4-4E42-B841-79A6273E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D450-AF6B-48F7-B44C-D2A0E6F5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1BE8-73A7-4543-8252-5770B6CF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3725-1C3D-4286-99E2-2254DD4B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4060-F132-4B9F-A89A-3BFE04B1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6CEB-1691-4E88-8275-4B0D48DB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0321-DE9A-4D25-AD30-F9F4AF40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3D79-4972-4623-AAF1-2543A835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3BD0-F84D-4386-97DB-55E4E021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DA93-17D7-4200-AE3D-870A912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9F32-A64C-42AE-90A2-61C0C3FA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31F6-FBFC-4AF9-BC12-E795D419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D47B-27AC-4322-B091-EFD88304100A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EDC4-8F02-4564-8E56-CE3E10CD34CE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490E-44DA-4C2F-97FF-D9B9D77C50C2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2700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239544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704880" y="2554200"/>
            <a:ext cx="83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704880" y="2881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chał Szczepa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9360" y="383688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3013200" y="4079880"/>
            <a:ext cx="6121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strukcja wypełniania w GWoD dla fazy B+R i faz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nfosigw.gov.pl/gfx/nfosigw/userfiles/files/srodki_krajowe/programy_2018/sokol/pp_wsaprcie_dla_innowacji_-zmiana_06.11.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http://nfosigw.gov.pl/gfx/nfosigw/userfiles/files/srodki_krajowe/programy_2018/sokol/pp_wsaprcie_dla_innowacji_-zmiana_06.11.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http://nfosigw.gov.pl/gfx/nfosigw/userfiles/files/srodki_krajowe/programy2015-2020/sokol/2018_iii_nabor/opis_krajowe_inteligentne_specjalizacje__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Programie Priorytetowy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strukcja wypełniania GW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4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aza B+R – 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technologiczny innowacyjnej technologii będącej przedmiotem prac badawczo rozwoj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In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ole tekstowe 1"/>
          <p:cNvSpPr/>
          <p:nvPr/>
        </p:nvSpPr>
        <p:spPr>
          <a:xfrm>
            <a:off x="250920" y="17654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technologiczny innowacyjnej technologii będącej przedmiotem wdraża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tudium wykonalności (opracowane wg wymagań zawartych w Instrukcji sporządzania Studium Wykonalności dla przedsięwzięcia ubiegającego się o dofinansowanie ze środków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FOŚiGW dostępnej w generatorze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armonogram realizacji prac budowlanych (jeśli dotycz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armonogram uzyskiwania zgód administracyjnych (jeśli dotycz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Udokumentowanie prawa do dysponowania nieruchomości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yceny, otrzymane oferty, kosztorys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datkowe dokumenty: zgłoszenia patentowe, licencje, umowy z dostawcami, listy intencyjne potwierdzające zapotrzebowanie na produkt itp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aza W – 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ichał Szczepa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chal.szczepaniak@nfosigw.gov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Szczepaniak Michał</cp:lastModifiedBy>
  <cp:lastPrinted>2016-08-08T05:02:58Z</cp:lastPrinted>
  <dcterms:modified xsi:type="dcterms:W3CDTF">2018-12-15T08:56:29Z</dcterms:modified>
  <cp:revision>409</cp:revision>
  <dc:subject/>
  <dc:title>Slajd 1</dc:title>
</cp:coreProperties>
</file>